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A8C-F11E-4704-AD77-9F4956EF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5920"/>
            <a:ext cx="77724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5EE-F78C-41FF-9AAA-1D0E533B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5228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592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592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3E8-E7F0-416C-B7B6-93A2EA5E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250236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52280"/>
            <a:ext cx="250236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52280"/>
            <a:ext cx="250236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5920"/>
            <a:ext cx="250236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5920"/>
            <a:ext cx="250236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5920"/>
            <a:ext cx="250236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0BC-3057-4F46-B976-B0178C0C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FA4-446F-4FCB-86D8-F94F013D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1F8-5DAD-44F7-9ACC-E11FFB7F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3792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52280"/>
            <a:ext cx="3792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C93-D38B-4298-995A-DE379C99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B79-1787-4CA3-B07F-2F37F219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335-24C5-41BC-9342-759657FE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52280"/>
            <a:ext cx="3792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592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8DF-3BB5-4793-B890-1790C916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3792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5228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592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CA1-CF11-4035-9FBB-90B28586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5228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5920"/>
            <a:ext cx="77724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FAB-92C8-44CB-A145-ED99AC1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4"/>
          <p:cNvPicPr/>
          <p:nvPr/>
        </p:nvPicPr>
        <p:blipFill>
          <a:blip r:embed="rId2"/>
          <a:stretch/>
        </p:blipFill>
        <p:spPr>
          <a:xfrm>
            <a:off x="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627120" indent="266760">
              <a:spcBef>
                <a:spcPts val="700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2" marL="1073160" indent="268200">
              <a:spcBef>
                <a:spcPts val="700"/>
              </a:spcBef>
              <a:buClr>
                <a:srgbClr val="ff3300"/>
              </a:buClr>
              <a:buFont typeface="Copperplate Gothic Bold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3" marL="1928880" indent="-22860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4" marL="2336760" indent="-228600">
              <a:spcBef>
                <a:spcPts val="700"/>
              </a:spcBef>
              <a:buClr>
                <a:srgbClr val="66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5" marL="233676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6" marL="233676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7775-335C-40D1-856F-8E0A0562C9C7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Using Adjectives and Adverbs Correct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Compound Adjec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82072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Two or more adjectives often appear together separated with comma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81920" indent="-275400">
              <a:spcBef>
                <a:spcPts val="1500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Brad’s tiny, tight swimsuit showed off his hairy belly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303920" indent="-259920">
              <a:spcBef>
                <a:spcPts val="1500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The words “tiny” and “tight” each work separately to modify “swimsuit”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marL="332640" indent="-332640">
              <a:spcBef>
                <a:spcPts val="174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Connect the words with a hyphen when they function together </a:t>
            </a:r>
            <a:r>
              <a:rPr b="1" lang="en-CA" sz="2800" spc="-1" strike="noStrike" u="sng">
                <a:solidFill>
                  <a:srgbClr val="663300"/>
                </a:solidFill>
                <a:uFillTx/>
                <a:latin typeface="Tahoma"/>
              </a:rPr>
              <a:t>before</a:t>
            </a: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 a nou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81920" indent="-275400">
              <a:lnSpc>
                <a:spcPct val="150000"/>
              </a:lnSpc>
              <a:spcBef>
                <a:spcPts val="1500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Brad’s gold-plated piercings stood out against his bright-red sunburn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303920" indent="-259920">
              <a:spcBef>
                <a:spcPts val="1500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Gold-plated” and “bright-red” are compound adjective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" name="Freeform 4"/>
          <p:cNvSpPr/>
          <p:nvPr/>
        </p:nvSpPr>
        <p:spPr>
          <a:xfrm>
            <a:off x="2954160" y="1824120"/>
            <a:ext cx="1706760" cy="36036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5"/>
          <p:cNvSpPr/>
          <p:nvPr/>
        </p:nvSpPr>
        <p:spPr>
          <a:xfrm>
            <a:off x="3348000" y="1916280"/>
            <a:ext cx="1058760" cy="2174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2700360" y="4581360"/>
            <a:ext cx="1706400" cy="2160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2050920" y="5157720"/>
            <a:ext cx="1706760" cy="2160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Compound Adjec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3068280"/>
            <a:ext cx="431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2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Brad was </a:t>
            </a:r>
            <a:r>
              <a:rPr b="1" lang="en-CA" sz="2000" spc="-1" strike="noStrike" u="sng">
                <a:solidFill>
                  <a:srgbClr val="009900"/>
                </a:solidFill>
                <a:uFillTx/>
                <a:latin typeface="Tahoma"/>
              </a:rPr>
              <a:t>well known</a:t>
            </a: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 along the boardwalk (no hyphen) 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522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522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His SUV was </a:t>
            </a:r>
            <a:r>
              <a:rPr b="1" lang="en-CA" sz="2000" spc="-1" strike="noStrike" u="sng">
                <a:solidFill>
                  <a:srgbClr val="009900"/>
                </a:solidFill>
                <a:uFillTx/>
                <a:latin typeface="Tahoma"/>
              </a:rPr>
              <a:t>fully equipped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522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Brad worked </a:t>
            </a:r>
            <a:r>
              <a:rPr b="1" lang="en-CA" sz="2000" spc="-1" strike="noStrike" u="sng">
                <a:solidFill>
                  <a:srgbClr val="009900"/>
                </a:solidFill>
                <a:uFillTx/>
                <a:latin typeface="Tahoma"/>
              </a:rPr>
              <a:t>full time</a:t>
            </a: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 on his tan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3068640"/>
            <a:ext cx="417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663300"/>
                </a:solidFill>
                <a:uFillTx/>
                <a:latin typeface="Tahoma"/>
              </a:rPr>
              <a:t>Brad was a </a:t>
            </a:r>
            <a:r>
              <a:rPr b="1" lang="en-CA" sz="2000" spc="-1" strike="noStrike" u="sng">
                <a:solidFill>
                  <a:srgbClr val="663300"/>
                </a:solidFill>
                <a:uFillTx/>
                <a:latin typeface="Tahoma"/>
              </a:rPr>
              <a:t>well-known</a:t>
            </a:r>
            <a:r>
              <a:rPr b="0" lang="en-CA" sz="2000" spc="-1" strike="noStrike" u="sng">
                <a:solidFill>
                  <a:srgbClr val="663300"/>
                </a:solidFill>
                <a:uFillTx/>
                <a:latin typeface="Tahoma"/>
              </a:rPr>
              <a:t> jerk (hyphenated) 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3300"/>
                </a:solidFill>
                <a:latin typeface="Tahoma"/>
              </a:rPr>
              <a:t>He drove a </a:t>
            </a:r>
            <a:r>
              <a:rPr b="1" lang="en-CA" sz="2000" spc="-1" strike="noStrike" u="sng">
                <a:solidFill>
                  <a:srgbClr val="663300"/>
                </a:solidFill>
                <a:uFillTx/>
                <a:latin typeface="Tahoma"/>
              </a:rPr>
              <a:t>fully-equipped</a:t>
            </a:r>
            <a:r>
              <a:rPr b="0" lang="en-CA" sz="2000" spc="-1" strike="noStrike">
                <a:solidFill>
                  <a:srgbClr val="663300"/>
                </a:solidFill>
                <a:latin typeface="Tahoma"/>
              </a:rPr>
              <a:t> SUV 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3300"/>
                </a:solidFill>
                <a:latin typeface="Tahoma"/>
              </a:rPr>
              <a:t>Brad was a </a:t>
            </a:r>
            <a:r>
              <a:rPr b="1" lang="en-CA" sz="2000" spc="-1" strike="noStrike" u="sng">
                <a:solidFill>
                  <a:srgbClr val="663300"/>
                </a:solidFill>
                <a:uFillTx/>
                <a:latin typeface="Tahoma"/>
              </a:rPr>
              <a:t>full-time</a:t>
            </a:r>
            <a:r>
              <a:rPr b="0" lang="en-CA" sz="2000" spc="-1" strike="noStrike">
                <a:solidFill>
                  <a:srgbClr val="663300"/>
                </a:solidFill>
                <a:latin typeface="Tahoma"/>
              </a:rPr>
              <a:t> chick magnet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62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4" name="Rectangle 42"/>
          <p:cNvSpPr/>
          <p:nvPr/>
        </p:nvSpPr>
        <p:spPr>
          <a:xfrm>
            <a:off x="684360" y="3573360"/>
            <a:ext cx="777240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6"/>
          <p:cNvSpPr/>
          <p:nvPr/>
        </p:nvSpPr>
        <p:spPr>
          <a:xfrm>
            <a:off x="755640" y="1197000"/>
            <a:ext cx="763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Do not hyphenate the words when they come </a:t>
            </a:r>
            <a:r>
              <a:rPr b="1" lang="en-CA" sz="2800" spc="-1" strike="noStrike" u="sng">
                <a:solidFill>
                  <a:srgbClr val="663300"/>
                </a:solidFill>
                <a:uFillTx/>
                <a:latin typeface="Tahoma"/>
              </a:rPr>
              <a:t>after</a:t>
            </a: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 the noun they mod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Notice the difference in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47"/>
          <p:cNvSpPr/>
          <p:nvPr/>
        </p:nvSpPr>
        <p:spPr>
          <a:xfrm>
            <a:off x="6516720" y="2997360"/>
            <a:ext cx="984240" cy="1616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48"/>
          <p:cNvSpPr/>
          <p:nvPr/>
        </p:nvSpPr>
        <p:spPr>
          <a:xfrm>
            <a:off x="1116000" y="2997360"/>
            <a:ext cx="1706400" cy="2156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49"/>
          <p:cNvSpPr/>
          <p:nvPr/>
        </p:nvSpPr>
        <p:spPr>
          <a:xfrm>
            <a:off x="6227640" y="4653000"/>
            <a:ext cx="1706760" cy="2160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50"/>
          <p:cNvSpPr/>
          <p:nvPr/>
        </p:nvSpPr>
        <p:spPr>
          <a:xfrm>
            <a:off x="6804000" y="4076640"/>
            <a:ext cx="1130400" cy="7308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51"/>
          <p:cNvSpPr/>
          <p:nvPr/>
        </p:nvSpPr>
        <p:spPr>
          <a:xfrm>
            <a:off x="1547640" y="3933720"/>
            <a:ext cx="1706760" cy="2160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53"/>
          <p:cNvSpPr/>
          <p:nvPr/>
        </p:nvSpPr>
        <p:spPr>
          <a:xfrm>
            <a:off x="1763640" y="4797360"/>
            <a:ext cx="1295640" cy="2160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Misplaced Modifi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Put adjectives and adverbs close to the words they modif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Notice how the meaning is affected by the improper placemen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2" marL="1073160" indent="2682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An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old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pile of clothes is on the floor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pile of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old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clothes is on the floor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073160" indent="2682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I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almost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believe you are finished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I believe you are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almost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finished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073160" indent="2682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The winners will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only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be contacted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Onl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the winners will be contacted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073160" indent="2682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I can’t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quite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do this as well as Fred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I can’t do this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quite 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s well as Fred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What are adjectiv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Adjectives modify nouns or pronou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These words are </a:t>
            </a:r>
            <a:r>
              <a:rPr b="1" lang="en-CA" sz="2800" spc="-1" strike="noStrike" u="sng">
                <a:solidFill>
                  <a:srgbClr val="663300"/>
                </a:solidFill>
                <a:uFillTx/>
                <a:latin typeface="Tahoma"/>
              </a:rPr>
              <a:t>all</a:t>
            </a: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 adjectiv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892080" indent="-357120">
              <a:lnSpc>
                <a:spcPct val="16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hot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day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892080" indent="-357120">
              <a:lnSpc>
                <a:spcPct val="16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happ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camper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892080" indent="-357120">
              <a:lnSpc>
                <a:spcPct val="16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sill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twit 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892080" indent="-35712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big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,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blood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mess (both “big” and “bloody” modify “mess”)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892080" indent="-35712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She is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creative 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(“creative” is a subject complement that follows the linking verb “is”)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892080" indent="-35712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boring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course (present participle used as an adjective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6" name="Freeform 37"/>
          <p:cNvSpPr/>
          <p:nvPr/>
        </p:nvSpPr>
        <p:spPr>
          <a:xfrm>
            <a:off x="2268360" y="2852640"/>
            <a:ext cx="1082880" cy="2034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38"/>
          <p:cNvSpPr/>
          <p:nvPr/>
        </p:nvSpPr>
        <p:spPr>
          <a:xfrm>
            <a:off x="2124000" y="3573360"/>
            <a:ext cx="792360" cy="1494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39"/>
          <p:cNvSpPr/>
          <p:nvPr/>
        </p:nvSpPr>
        <p:spPr>
          <a:xfrm>
            <a:off x="2195640" y="3933720"/>
            <a:ext cx="1706400" cy="36036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0"/>
          <p:cNvSpPr/>
          <p:nvPr/>
        </p:nvSpPr>
        <p:spPr>
          <a:xfrm>
            <a:off x="2050920" y="2276640"/>
            <a:ext cx="792360" cy="12996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41"/>
          <p:cNvSpPr/>
          <p:nvPr/>
        </p:nvSpPr>
        <p:spPr>
          <a:xfrm>
            <a:off x="3059280" y="4005360"/>
            <a:ext cx="1082520" cy="2030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42"/>
          <p:cNvSpPr/>
          <p:nvPr/>
        </p:nvSpPr>
        <p:spPr>
          <a:xfrm>
            <a:off x="2050920" y="4797360"/>
            <a:ext cx="1082880" cy="2034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43"/>
          <p:cNvSpPr/>
          <p:nvPr/>
        </p:nvSpPr>
        <p:spPr>
          <a:xfrm>
            <a:off x="2268360" y="5589720"/>
            <a:ext cx="1082880" cy="2030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So what are adverb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Adverbs modify verbs, adjectives and other adverb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Many adverbs end with </a:t>
            </a:r>
            <a:r>
              <a:rPr b="0" lang="en-CA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Many adverbs answer the question </a:t>
            </a:r>
            <a:r>
              <a:rPr b="0" lang="en-CA" sz="2800" spc="-1" strike="noStrike">
                <a:solidFill>
                  <a:srgbClr val="cc3300"/>
                </a:solidFill>
                <a:latin typeface="Tahoma"/>
              </a:rPr>
              <a:t>“How?”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These are adverb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Eating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quickly</a:t>
            </a:r>
            <a:r>
              <a:rPr b="1" lang="en-CA" sz="2400" spc="-1" strike="noStrike">
                <a:solidFill>
                  <a:srgbClr val="009900"/>
                </a:solidFill>
                <a:latin typeface="Tahoma"/>
              </a:rPr>
              <a:t> (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modifying a verb)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Trying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ver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hard </a:t>
            </a:r>
            <a:r>
              <a:rPr b="1" lang="en-CA" sz="24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modifying an adverb)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reall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big show </a:t>
            </a:r>
            <a:r>
              <a:rPr b="1" lang="en-CA" sz="24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modifying an adjective)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2124000" y="4365720"/>
            <a:ext cx="1082880" cy="2030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2843280" y="3933720"/>
            <a:ext cx="792000" cy="13176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2340000" y="3429000"/>
            <a:ext cx="792000" cy="2030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Recognizing Adjectives &amp; Adverb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Many words have both an adjective and adverb form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700280"/>
          <a:ext cx="7772400" cy="4255920"/>
        </p:xfrm>
        <a:graphic>
          <a:graphicData uri="http://schemas.openxmlformats.org/drawingml/2006/table">
            <a:tbl>
              <a:tblPr/>
              <a:tblGrid>
                <a:gridCol w="3888000"/>
                <a:gridCol w="3884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2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Adjec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2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Adver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appy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ki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Play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appi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Smooth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r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Runn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smooth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Good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n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Eat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W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Efficient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work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Work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effici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asual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Dress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asu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Quick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mee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Talk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quick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opeful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Wait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opefu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Real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bu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Really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Comparatives and Superla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Most adverbs and adjectives also have a </a:t>
            </a:r>
            <a:r>
              <a:rPr b="1" lang="en-CA" sz="2400" spc="-1" strike="noStrike">
                <a:solidFill>
                  <a:srgbClr val="663300"/>
                </a:solidFill>
                <a:latin typeface="Tahoma"/>
              </a:rPr>
              <a:t>comparative</a:t>
            </a: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 and </a:t>
            </a:r>
            <a:r>
              <a:rPr b="1" lang="en-CA" sz="2400" spc="-1" strike="noStrike">
                <a:solidFill>
                  <a:srgbClr val="663300"/>
                </a:solidFill>
                <a:latin typeface="Tahoma"/>
              </a:rPr>
              <a:t>superlative</a:t>
            </a: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 form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9640" y="1916280"/>
          <a:ext cx="7772400" cy="257796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ompar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Superl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o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ott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Exc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More exc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Most exc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are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Less care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Least care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4"/>
          <p:cNvSpPr/>
          <p:nvPr/>
        </p:nvSpPr>
        <p:spPr>
          <a:xfrm>
            <a:off x="684360" y="4724280"/>
            <a:ext cx="77724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Use the comparative form to compare two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26676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Sally is the larg</a:t>
            </a:r>
            <a:r>
              <a:rPr b="1" lang="en-CA" sz="2000" spc="-1" strike="noStrike" u="sng">
                <a:solidFill>
                  <a:srgbClr val="009900"/>
                </a:solidFill>
                <a:uFillTx/>
                <a:latin typeface="Tahoma"/>
              </a:rPr>
              <a:t>er</a:t>
            </a: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 of the twins (not larg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Use the superlative form to compare three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26676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August was the hott</a:t>
            </a:r>
            <a:r>
              <a:rPr b="1" lang="en-CA" sz="2000" spc="-1" strike="noStrike" u="sng">
                <a:solidFill>
                  <a:srgbClr val="009900"/>
                </a:solidFill>
                <a:uFillTx/>
                <a:latin typeface="Tahoma"/>
              </a:rPr>
              <a:t>est</a:t>
            </a: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 month of the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Double Compara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052280"/>
            <a:ext cx="81342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Don’t use “more” or “most” with –er or –es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2" marL="1438200" indent="-3618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Yesterday was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more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hott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er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than today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2" marL="1438200" indent="-3618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That was the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most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dirti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est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story I ever heard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2" marL="1438200" indent="-3618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You are the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bestest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teacher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Absolute Concep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Don’t use comparatives or superlatives with absolute concep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Absolutes have only two possibilities, on or off, yes or no, with nothing in betwee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2" marL="1073160" indent="268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Tahoma"/>
              </a:rPr>
              <a:t>The most perfect student in the class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lvl="2" marL="1073160" indent="268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Tahoma"/>
              </a:rPr>
              <a:t>A very unique idea (say “very unusual” instead)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These words express absolute concepts that cannot be modified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11280" y="4437000"/>
          <a:ext cx="7772400" cy="1836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More price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Sort of d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Quite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A little bit preg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Very unanimo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Extremely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Quite un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ompletely anonym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Line 76"/>
          <p:cNvSpPr/>
          <p:nvPr/>
        </p:nvSpPr>
        <p:spPr>
          <a:xfrm>
            <a:off x="684360" y="4724280"/>
            <a:ext cx="79200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7"/>
          <p:cNvSpPr/>
          <p:nvPr/>
        </p:nvSpPr>
        <p:spPr>
          <a:xfrm>
            <a:off x="4716360" y="4724280"/>
            <a:ext cx="79236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8"/>
          <p:cNvSpPr/>
          <p:nvPr/>
        </p:nvSpPr>
        <p:spPr>
          <a:xfrm>
            <a:off x="755640" y="5157720"/>
            <a:ext cx="64764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79"/>
          <p:cNvSpPr/>
          <p:nvPr/>
        </p:nvSpPr>
        <p:spPr>
          <a:xfrm>
            <a:off x="4716360" y="5157720"/>
            <a:ext cx="122400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80"/>
          <p:cNvSpPr/>
          <p:nvPr/>
        </p:nvSpPr>
        <p:spPr>
          <a:xfrm>
            <a:off x="755640" y="5661000"/>
            <a:ext cx="57636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81"/>
          <p:cNvSpPr/>
          <p:nvPr/>
        </p:nvSpPr>
        <p:spPr>
          <a:xfrm>
            <a:off x="826920" y="6093000"/>
            <a:ext cx="64944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3"/>
          <p:cNvSpPr/>
          <p:nvPr/>
        </p:nvSpPr>
        <p:spPr>
          <a:xfrm>
            <a:off x="4643280" y="5661000"/>
            <a:ext cx="129708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88"/>
          <p:cNvSpPr/>
          <p:nvPr/>
        </p:nvSpPr>
        <p:spPr>
          <a:xfrm>
            <a:off x="2627280" y="2708280"/>
            <a:ext cx="50472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9"/>
          <p:cNvSpPr/>
          <p:nvPr/>
        </p:nvSpPr>
        <p:spPr>
          <a:xfrm>
            <a:off x="4859280" y="6093000"/>
            <a:ext cx="79236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0"/>
          <p:cNvSpPr/>
          <p:nvPr/>
        </p:nvSpPr>
        <p:spPr>
          <a:xfrm>
            <a:off x="2411280" y="3068640"/>
            <a:ext cx="36036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Don’t use adjectives when adverbs are need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73160" indent="268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You did a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real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nice job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3" marL="192888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3300"/>
                </a:solidFill>
                <a:latin typeface="Tahoma"/>
              </a:rPr>
              <a:t>(an adjective can’t modify another adjective)</a:t>
            </a: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  <a:p>
            <a:pPr lvl="1" marL="627120" indent="2667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You did a real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l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nice job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3" marL="192888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3300"/>
                </a:solidFill>
                <a:latin typeface="Tahoma"/>
              </a:rPr>
              <a:t>(the adverb “really” modifies “nice”)</a:t>
            </a: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  <a:p>
            <a:pPr lvl="2" marL="1073160" indent="268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He did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good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He did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well 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CA" sz="2400" spc="-1" strike="noStrike">
                <a:solidFill>
                  <a:srgbClr val="ffffcc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627120" indent="2667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He did a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 good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job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073160" indent="268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Fuel injection helps the car run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efficient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Fuel injection helps the car run efficient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ly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073160" indent="268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Come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quick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Come quick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l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073160" indent="268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Hopefully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, it won’t rain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3" marL="192888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3300"/>
                </a:solidFill>
                <a:latin typeface="Tahoma"/>
              </a:rPr>
              <a:t>(an adverb explains </a:t>
            </a:r>
            <a:r>
              <a:rPr b="1" lang="en-CA" sz="1800" spc="-1" strike="noStrike" u="sng">
                <a:solidFill>
                  <a:srgbClr val="663300"/>
                </a:solidFill>
                <a:uFillTx/>
                <a:latin typeface="Tahoma"/>
              </a:rPr>
              <a:t>how</a:t>
            </a:r>
            <a:r>
              <a:rPr b="0" lang="en-CA" sz="1800" spc="-1" strike="noStrike">
                <a:solidFill>
                  <a:srgbClr val="663300"/>
                </a:solidFill>
                <a:latin typeface="Tahoma"/>
              </a:rPr>
              <a:t> something will happen</a:t>
            </a: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  <a:p>
            <a:pPr lvl="1" marL="627120" indent="2667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I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hope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that it won’t rain 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Don’t use needless adverb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Before using any of these words, check to see if they add anything to the sentenc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Really, very, absolutely, extremely, quite, actually, somewhat, rather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I am </a:t>
            </a:r>
            <a:r>
              <a:rPr b="1" lang="en-CA" sz="2000" spc="-1" strike="noStrike" u="sng">
                <a:solidFill>
                  <a:srgbClr val="3333cc"/>
                </a:solidFill>
                <a:uFillTx/>
                <a:latin typeface="Tahoma"/>
              </a:rPr>
              <a:t>really</a:t>
            </a: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 happy to see you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Grammar is </a:t>
            </a:r>
            <a:r>
              <a:rPr b="1" lang="en-CA" sz="2000" spc="-1" strike="noStrike" u="sng">
                <a:solidFill>
                  <a:srgbClr val="3333cc"/>
                </a:solidFill>
                <a:uFillTx/>
                <a:latin typeface="Tahoma"/>
              </a:rPr>
              <a:t>very</a:t>
            </a: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 boring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You are </a:t>
            </a:r>
            <a:r>
              <a:rPr b="1" lang="en-CA" sz="2000" spc="-1" strike="noStrike" u="sng">
                <a:solidFill>
                  <a:srgbClr val="3333cc"/>
                </a:solidFill>
                <a:uFillTx/>
                <a:latin typeface="Tahoma"/>
              </a:rPr>
              <a:t>absolutely</a:t>
            </a: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 correct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Her language was </a:t>
            </a:r>
            <a:r>
              <a:rPr b="1" lang="en-CA" sz="2000" spc="-1" strike="noStrike" u="sng">
                <a:solidFill>
                  <a:srgbClr val="3333cc"/>
                </a:solidFill>
                <a:uFillTx/>
                <a:latin typeface="Tahoma"/>
              </a:rPr>
              <a:t>extremely</a:t>
            </a: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 crude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You are </a:t>
            </a:r>
            <a:r>
              <a:rPr b="1" lang="en-CA" sz="2000" spc="-1" strike="noStrike" u="sng">
                <a:solidFill>
                  <a:srgbClr val="3333cc"/>
                </a:solidFill>
                <a:uFillTx/>
                <a:latin typeface="Tahoma"/>
              </a:rPr>
              <a:t>quite</a:t>
            </a: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 intelligent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Context will help you decide whether to retain the underlined word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Keep them only if they add to the meaning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2" marL="1160640" indent="2682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Tahoma"/>
              </a:rPr>
              <a:t>Bill Gates is </a:t>
            </a:r>
            <a:r>
              <a:rPr b="1" lang="en-CA" sz="2000" spc="-1" strike="noStrike" u="sng">
                <a:solidFill>
                  <a:srgbClr val="ff3300"/>
                </a:solidFill>
                <a:uFillTx/>
                <a:latin typeface="Tahoma"/>
              </a:rPr>
              <a:t>very</a:t>
            </a:r>
            <a:r>
              <a:rPr b="0" lang="en-CA" sz="2000" spc="-1" strike="noStrike">
                <a:solidFill>
                  <a:srgbClr val="ff3300"/>
                </a:solidFill>
                <a:latin typeface="Tahoma"/>
              </a:rPr>
              <a:t> rich. I hope he gives me some money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Most college instructors are poor; their students are </a:t>
            </a:r>
            <a:r>
              <a:rPr b="1" lang="en-CA" sz="2000" spc="-1" strike="noStrike" u="sng">
                <a:solidFill>
                  <a:srgbClr val="009900"/>
                </a:solidFill>
                <a:uFillTx/>
                <a:latin typeface="Tahoma"/>
              </a:rPr>
              <a:t>very</a:t>
            </a: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 poor.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3333cc"/>
                </a:solidFill>
                <a:uFillTx/>
                <a:latin typeface="Tahoma"/>
              </a:rPr>
              <a:t>Note</a:t>
            </a: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: the terms “</a:t>
            </a:r>
            <a:r>
              <a:rPr b="1" lang="en-CA" sz="2400" spc="-1" strike="noStrike" u="sng">
                <a:solidFill>
                  <a:srgbClr val="663300"/>
                </a:solidFill>
                <a:uFillTx/>
                <a:latin typeface="Tahoma"/>
              </a:rPr>
              <a:t>good success</a:t>
            </a: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” and “</a:t>
            </a:r>
            <a:r>
              <a:rPr b="1" lang="en-CA" sz="2400" spc="-1" strike="noStrike" u="sng">
                <a:solidFill>
                  <a:srgbClr val="663300"/>
                </a:solidFill>
                <a:uFillTx/>
                <a:latin typeface="Tahoma"/>
              </a:rPr>
              <a:t>real good success</a:t>
            </a: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” have been reserved for sports broadcasters; do not use them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276720" y="4981680"/>
            <a:ext cx="50472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03:13:50Z</dcterms:created>
  <dc:creator>Les Hanson</dc:creator>
  <dc:description/>
  <dc:language>en-US</dc:language>
  <cp:lastModifiedBy>kickstand</cp:lastModifiedBy>
  <dcterms:modified xsi:type="dcterms:W3CDTF">2013-01-25T12:01:46Z</dcterms:modified>
  <cp:revision>39</cp:revision>
  <dc:subject/>
  <dc:title>Using Adjectives and Adverbs</dc:title>
</cp:coreProperties>
</file>